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7BA-6CB3-404B-A1DF-7DD378E3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F24-6189-46F6-B91F-1982186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F0A-94D5-4DDD-911D-64B6D657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ABD-CF39-401E-B7E0-C1B172E3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D40-A2FF-4452-8D50-48E5CD39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353-EDC7-448B-9763-8DE11191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F8F0-F32E-4EFF-AE96-30595962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29A1-DB39-4ABE-B6C5-DAA8853F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E5B-AE16-4CAE-A3E8-5DC1D9E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3C6E-14EB-4B2C-B533-F4E148A9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9C38-E374-4DA7-827C-E694C13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06A-9DC4-49EE-9DA8-B77C812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CD8-FEE0-4CAF-BA00-41599DC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99B-2391-4D77-BD53-8CF9334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D06-4B25-43B8-9B9B-2071A2CC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60ED-051E-48DF-95DE-43C34561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810F-3F9D-4115-A9C5-73F9DA3D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4FC5-E655-4375-83E2-170DBAA9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5DFC-E0B1-4B98-9AA7-3A0787B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CF33-34A3-4E78-8E85-F595F9FC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68E6-3277-4090-8B5B-67E9A7EC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E5BE-218E-4CA3-8308-FCF776B5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FFB-D8C7-4E77-8768-871533A2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6EE4-8F86-4353-B175-CF4B508A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CE1D-284E-4E1D-82FA-3632BCC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88C4-2A7D-48B7-9583-1A96E5B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7FD7-AD93-4982-94B2-A166FC6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6C0A-B173-48CD-AC02-12654F3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F803-5E2D-4489-B95B-F8FB89A9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B581-A118-4B05-AF0B-8445001A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D052-055D-4BF8-B6D3-15B9DFBE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C85F-1BDE-4ED5-8460-65B52158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3BF5-5B30-4ACB-B6FB-276D7F4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943-0606-4306-805B-06DEFDB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4313-D616-42B1-BA9D-1059B47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509F-F409-4CDB-BDFA-E823BCA5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178A-7750-4E8F-9791-93E2BA23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31CA-5BAB-4514-9918-A71FF1E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F41F-D555-4898-8E37-56B935A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260C-1F47-4176-B66C-2E58788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AD23-755F-4224-B5B8-C1955128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BC41-E6CA-4293-809E-C9A03C7C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7872-DF21-47E2-BBAF-563E364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891E-1EAC-4A5E-8FA5-C21E1CE5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72E-80A0-4201-A9FB-FD7194E7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4593-21B3-4BF4-B757-B1E7E9B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65CB-0377-45C9-839E-4971328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59EF-6DF3-4175-84E2-8AC807D5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AAA94-5DAF-4869-AC64-E5BC6ECF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ED3D-0604-4E7B-9A70-9D5D41B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82C08-842B-49A9-83AA-65510B2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548C-F517-4FC2-A13A-7CA6D9D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F1DE-02D8-4FD1-A7B1-2DAF15DC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53489-B433-4626-9F71-9DB1156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2272-36CD-4D3C-BD8E-1BC45C94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C00-E86E-4C30-B207-8AE1A56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CB15-5914-4ED1-ADD4-F6886513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069B-97F1-45A5-A024-DEDD996E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579A-3DCD-47BF-9DD9-E8B39C6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9853-A5EF-42B5-9D55-38558E0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F864-3B45-4884-81F0-51864D0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D552-F3E4-42DF-82A3-052FF24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EB35-34CA-4B99-B1F8-0A4839F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A91A-0A95-4C45-8EE7-6613B8B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E8FCC-5D9F-44D5-BC4D-9B1C1C3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C5E07-CCCC-4A68-8A4A-4EC13E6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9C8-D6C4-43A9-8168-55F5625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A3E0-3F1A-447B-9115-B6A17AC3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2BF4-3C99-4772-928D-67696E6D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BCBF-FEE7-4041-9720-747B143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5F2E-BF36-45F8-A01F-933DDB2D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4E81-BBDF-4B52-8702-64ACEB22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3EF9-00CD-44B0-B73D-9420399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0935-C5E2-4914-971C-A7FB96D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E2F8F-83BC-4931-AAD9-3D442BE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99C9-CCCC-41F9-A51F-377924B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638C-F768-4AE7-88E8-9E154BB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FD4-CAA5-4E12-B6B7-87B22C3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3FC14-7F50-4B51-9060-7DD7089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9A3E5-0562-4573-9BC4-73E4ED1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FC15-83E9-4A09-BB9F-E1F88BD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3F1B-D012-414A-8F9B-D5D4F6A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7731-E55A-473B-A5B0-3E542A06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875-A673-4D9D-88D6-B5ABCD0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0D2-5AE1-4305-96B2-47761F26A46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706-19C5-4670-AD5A-9F97E8B5151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4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Oval 1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44F0-6A63-4625-81AA-14173598E6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2FE0-7B4D-427B-9291-781ED7043E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03D-4CE1-4D41-8F66-C9F839F8D8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D9F7-EF6F-47BE-B03C-4069512693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0AB-7438-4721-B001-61268D2714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eanvideosearch.com/media/action/yt/watch?v=kdz9VGH8dwY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leO28ydyfU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19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95280" y="1341000"/>
            <a:ext cx="7391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do many scientists classify viruses as non-liv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raw the basic structure of a virus. Label and define capsid, viral envelope and nucleic aci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28240"/>
            <a:ext cx="74995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implified viral replicative cycl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19_04ViralReproCycle-L.jpg"/>
          <p:cNvPicPr/>
          <p:nvPr/>
        </p:nvPicPr>
        <p:blipFill>
          <a:blip r:embed="rId1"/>
          <a:stretch/>
        </p:blipFill>
        <p:spPr>
          <a:xfrm>
            <a:off x="1981080" y="1143000"/>
            <a:ext cx="60213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terioph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 that infects bacterial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3" descr="19_03dViralStructure-L.jpg"/>
          <p:cNvPicPr/>
          <p:nvPr/>
        </p:nvPicPr>
        <p:blipFill>
          <a:blip r:embed="rId1"/>
          <a:stretch/>
        </p:blipFill>
        <p:spPr>
          <a:xfrm>
            <a:off x="1676520" y="2362320"/>
            <a:ext cx="2950920" cy="4114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http://blog.labplanet.com/wp-content/uploads/2011/11/Bacteriophage-300x288.jpg"/>
          <p:cNvPicPr/>
          <p:nvPr/>
        </p:nvPicPr>
        <p:blipFill>
          <a:blip r:embed="rId2"/>
          <a:stretch/>
        </p:blipFill>
        <p:spPr>
          <a:xfrm>
            <a:off x="5181480" y="2414520"/>
            <a:ext cx="320040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Video: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4 Phage infe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19_05T4LyticCycle_5-L.jpg"/>
          <p:cNvPicPr/>
          <p:nvPr/>
        </p:nvPicPr>
        <p:blipFill>
          <a:blip r:embed="rId1"/>
          <a:stretch/>
        </p:blipFill>
        <p:spPr>
          <a:xfrm>
            <a:off x="298440" y="255600"/>
            <a:ext cx="8547120" cy="6346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228600" y="369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tic Cycle of T4 P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teriophage Rep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Lytic Cyc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host machinery to make copies of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th of host cell by rupturing it (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lysi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ulent phages replicate by this meth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Lysogenic Cyc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age DNA incorporated into host DNA and replicated along wit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age DNA =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Gill Sans MT"/>
              </a:rPr>
              <a:t>proph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Gill Sans MT"/>
              </a:rPr>
              <a:t>Temperate Ph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uses both methods of repl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497720" cy="8380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ytic Cycle vs. Lysogenic Cyc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6" name="Picture 4" descr="19_06_LambdaLyticLysoCyc-L.jpg"/>
          <p:cNvPicPr/>
          <p:nvPr/>
        </p:nvPicPr>
        <p:blipFill>
          <a:blip r:embed="rId1"/>
          <a:stretch/>
        </p:blipFill>
        <p:spPr>
          <a:xfrm>
            <a:off x="39600" y="1295280"/>
            <a:ext cx="90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19_07EnvRNAVirusLifeCyc-L.jpg"/>
          <p:cNvPicPr/>
          <p:nvPr/>
        </p:nvPicPr>
        <p:blipFill>
          <a:blip r:embed="rId1"/>
          <a:stretch/>
        </p:blipFill>
        <p:spPr>
          <a:xfrm>
            <a:off x="152280" y="1066680"/>
            <a:ext cx="5562720" cy="5373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553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Gill Sans MT"/>
              </a:rPr>
              <a:t>Animal viruses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 have a membranou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Gill Sans MT"/>
              </a:rPr>
              <a:t>envelop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257800" y="1066680"/>
            <a:ext cx="3657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membrane forms around exiting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icult for host immune system to detect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trovir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NA virus that uses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reverse transcriptase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R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N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ly made viral DNA inserted into chromosome of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transcribes viral DNA (=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provir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to make new virus pa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Example: HIV (Human Immunodeficiency Vir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19_08aHIVReproCycle-L.jpg"/>
          <p:cNvPicPr/>
          <p:nvPr/>
        </p:nvPicPr>
        <p:blipFill>
          <a:blip r:embed="rId1"/>
          <a:stretch/>
        </p:blipFill>
        <p:spPr>
          <a:xfrm>
            <a:off x="1752480" y="152280"/>
            <a:ext cx="7066080" cy="6583320"/>
          </a:xfrm>
          <a:prstGeom prst="rect">
            <a:avLst/>
          </a:prstGeom>
          <a:ln w="0">
            <a:noFill/>
          </a:ln>
        </p:spPr>
      </p:pic>
      <p:grpSp>
        <p:nvGrpSpPr>
          <p:cNvPr id="363" name="TextBox 4"/>
          <p:cNvGrpSpPr/>
          <p:nvPr/>
        </p:nvGrpSpPr>
        <p:grpSpPr>
          <a:xfrm>
            <a:off x="1311120" y="2865600"/>
            <a:ext cx="2479680" cy="1769760"/>
            <a:chOff x="1311120" y="2865600"/>
            <a:chExt cx="2479680" cy="1769760"/>
          </a:xfrm>
        </p:grpSpPr>
        <p:pic>
          <p:nvPicPr>
            <p:cNvPr id="364" name="TextBox 4" descr=""/>
            <p:cNvPicPr/>
            <p:nvPr/>
          </p:nvPicPr>
          <p:blipFill>
            <a:blip r:embed="rId2"/>
            <a:stretch/>
          </p:blipFill>
          <p:spPr>
            <a:xfrm>
              <a:off x="1311120" y="2865600"/>
              <a:ext cx="24796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371600" y="2895480"/>
              <a:ext cx="2362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Gill Sans MT"/>
                </a:rPr>
                <a:t>HIV = Retroviru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62720" y="9907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Gill Sans MT"/>
              </a:rPr>
              <a:t>HIV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Picture 4" descr="19_08bHIVReproCycle-L.jpg"/>
          <p:cNvPicPr/>
          <p:nvPr/>
        </p:nvPicPr>
        <p:blipFill>
          <a:blip r:embed="rId1"/>
          <a:stretch/>
        </p:blipFill>
        <p:spPr>
          <a:xfrm>
            <a:off x="304920" y="1066680"/>
            <a:ext cx="5046480" cy="4813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5029200" y="19047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ects white blood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HIV+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rus (DNA inserte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AI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active viral reproduc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h. 19 Warm-up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112400"/>
            <a:ext cx="7391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raw the lytic/lysogenic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stage of the lytic-lysogenic cycle is a virus virulent?  Temperat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etermines a host ran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Video: </a:t>
            </a:r>
            <a:r>
              <a:rPr b="0" lang="en-US" sz="4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IV Life Cycl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human 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21896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pes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276880" y="121896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po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Smallpox lesions"/>
          <p:cNvPicPr/>
          <p:nvPr/>
        </p:nvPicPr>
        <p:blipFill>
          <a:blip r:embed="rId1"/>
          <a:stretch/>
        </p:blipFill>
        <p:spPr>
          <a:xfrm>
            <a:off x="5257800" y="243828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damnatio.com/wp-content/uploads/2010/11/herpes-pictures-300x199.jpg"/>
          <p:cNvPicPr/>
          <p:nvPr/>
        </p:nvPicPr>
        <p:blipFill>
          <a:blip r:embed="rId2"/>
          <a:stretch/>
        </p:blipFill>
        <p:spPr>
          <a:xfrm>
            <a:off x="1447920" y="2219400"/>
            <a:ext cx="2743200" cy="1819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coldsoreblisters.com/images/herpes1.jpg"/>
          <p:cNvPicPr/>
          <p:nvPr/>
        </p:nvPicPr>
        <p:blipFill>
          <a:blip r:embed="rId3"/>
          <a:stretch/>
        </p:blipFill>
        <p:spPr>
          <a:xfrm>
            <a:off x="1143000" y="452268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8"/>
          <p:cNvSpPr/>
          <p:nvPr/>
        </p:nvSpPr>
        <p:spPr>
          <a:xfrm>
            <a:off x="914400" y="1839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s Simplex Virus 1 (HSV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1066680" y="4114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s Simplex Virus 2 (HSV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0552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dicated in 1979 due to worldwide vaccination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cci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akened virus or part of pathogen that triggers immune system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ttp://www.cdc.gov/vaccinesafety/00_images/Boy%20getting%20vaccinated.jpg"/>
          <p:cNvPicPr/>
          <p:nvPr/>
        </p:nvPicPr>
        <p:blipFill>
          <a:blip r:embed="rId1"/>
          <a:stretch/>
        </p:blipFill>
        <p:spPr>
          <a:xfrm>
            <a:off x="2362320" y="274320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19_09cInfluenza-L.jpg"/>
          <p:cNvPicPr/>
          <p:nvPr/>
        </p:nvPicPr>
        <p:blipFill>
          <a:blip r:embed="rId1"/>
          <a:stretch/>
        </p:blipFill>
        <p:spPr>
          <a:xfrm>
            <a:off x="4876920" y="3962520"/>
            <a:ext cx="3978000" cy="26701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198360"/>
            <a:ext cx="86295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Gill Sans MT"/>
              </a:rPr>
              <a:t>Emerging viruses</a:t>
            </a:r>
            <a:r>
              <a:rPr b="1" lang="en-US" sz="3400" spc="-1" strike="noStrike">
                <a:solidFill>
                  <a:srgbClr val="0000ff"/>
                </a:solidFill>
                <a:latin typeface="Gill Sans MT"/>
              </a:rPr>
              <a:t> = mutation of existing virus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4" descr="19_09aInfluenza-L.jpg"/>
          <p:cNvPicPr/>
          <p:nvPr/>
        </p:nvPicPr>
        <p:blipFill>
          <a:blip r:embed="rId2"/>
          <a:stretch/>
        </p:blipFill>
        <p:spPr>
          <a:xfrm>
            <a:off x="228600" y="2286000"/>
            <a:ext cx="3100320" cy="4395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19_09bInfluenza-L.jpg"/>
          <p:cNvPicPr/>
          <p:nvPr/>
        </p:nvPicPr>
        <p:blipFill>
          <a:blip r:embed="rId3"/>
          <a:stretch/>
        </p:blipFill>
        <p:spPr>
          <a:xfrm>
            <a:off x="2743200" y="1219320"/>
            <a:ext cx="3021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1523520"/>
            <a:ext cx="4508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, circular RNA molecules that infect pl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use errors in regulatory systems that control plan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coconut palms in Philipp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4" descr="http://www.biologie.uni-hamburg.de/bzf/mppg/agviro2.jpg"/>
          <p:cNvPicPr/>
          <p:nvPr/>
        </p:nvPicPr>
        <p:blipFill>
          <a:blip r:embed="rId1"/>
          <a:stretch/>
        </p:blipFill>
        <p:spPr>
          <a:xfrm>
            <a:off x="5867280" y="304920"/>
            <a:ext cx="2629080" cy="197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www.forestryimages.org/images/768x512/0656009.jpg"/>
          <p:cNvPicPr/>
          <p:nvPr/>
        </p:nvPicPr>
        <p:blipFill>
          <a:blip r:embed="rId2"/>
          <a:stretch/>
        </p:blipFill>
        <p:spPr>
          <a:xfrm>
            <a:off x="5867280" y="2590920"/>
            <a:ext cx="2641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066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sfolded, infecti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cause misfolding of normal protei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mad cow disease (BSE),Creutzfeldt-Jakob disease (humans), scrapie (shee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3" descr="19_11PrionPropagation-L.jpg"/>
          <p:cNvPicPr/>
          <p:nvPr/>
        </p:nvPicPr>
        <p:blipFill>
          <a:blip r:embed="rId1"/>
          <a:stretch/>
        </p:blipFill>
        <p:spPr>
          <a:xfrm>
            <a:off x="380880" y="3352680"/>
            <a:ext cx="854712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Diseases caused by prion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ons act slowly – incubation period of at least 10 years before symptoms devel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ons are virtually indestructible (cannot be denatured by hea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known cure for prion dise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2" descr="http://www.nlm.nih.gov/medlineplus/ency/images/ency/fullsize/17146.jpg"/>
          <p:cNvPicPr/>
          <p:nvPr/>
        </p:nvPicPr>
        <p:blipFill>
          <a:blip r:embed="rId1"/>
          <a:stretch/>
        </p:blipFill>
        <p:spPr>
          <a:xfrm>
            <a:off x="1066680" y="365760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eeklyecho.com/blog/media/1/20060520-kuru.jpg"/>
          <p:cNvPicPr/>
          <p:nvPr/>
        </p:nvPicPr>
        <p:blipFill>
          <a:blip r:embed="rId2"/>
          <a:stretch/>
        </p:blipFill>
        <p:spPr>
          <a:xfrm>
            <a:off x="5486400" y="3722760"/>
            <a:ext cx="2666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1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3" descr="19_01T4PhageEColi-L.jpg"/>
          <p:cNvPicPr/>
          <p:nvPr/>
        </p:nvPicPr>
        <p:blipFill>
          <a:blip r:embed="rId1"/>
          <a:stretch/>
        </p:blipFill>
        <p:spPr>
          <a:xfrm>
            <a:off x="2651040" y="2511360"/>
            <a:ext cx="5024520" cy="76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must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mponents of a vir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ifferences between lytic and lysogenic cyc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Bacteria vs. Viruse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160" y="114264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8452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karyotic c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are free-living (some parasiti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atively larg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d to kill bacte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64160" y="178452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a living cell (genes packaged in protein shel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acellular para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/1000 size of bacte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Vaccine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to prevent viral inf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tiviral trea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http://healthmediconline.com/wp-content/uploads/2011/06/e-coli-streptococci-300x162.jpg"/>
          <p:cNvPicPr/>
          <p:nvPr/>
        </p:nvPicPr>
        <p:blipFill>
          <a:blip r:embed="rId1"/>
          <a:stretch/>
        </p:blipFill>
        <p:spPr>
          <a:xfrm>
            <a:off x="990720" y="5010120"/>
            <a:ext cx="2857320" cy="154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Modern Medicine Image Gallery"/>
          <p:cNvPicPr/>
          <p:nvPr/>
        </p:nvPicPr>
        <p:blipFill>
          <a:blip r:embed="rId2"/>
          <a:stretch/>
        </p:blipFill>
        <p:spPr>
          <a:xfrm>
            <a:off x="5562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980720" y="14475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y small (&lt;ribosom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onents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DNA or RNA (double or single-strande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Gill Sans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protein sh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 viruses also hav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viral envelop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surround cap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m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host ran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g. human cold virus infects upper respiratory trac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roduce within host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http://drugmega.com/wp-content/uploads/2011/09/0983243.jpg"/>
          <p:cNvPicPr/>
          <p:nvPr/>
        </p:nvPicPr>
        <p:blipFill>
          <a:blip r:embed="rId1"/>
          <a:stretch/>
        </p:blipFill>
        <p:spPr>
          <a:xfrm>
            <a:off x="228600" y="28954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37" name="Down Arrow 4"/>
          <p:cNvSpPr/>
          <p:nvPr/>
        </p:nvSpPr>
        <p:spPr>
          <a:xfrm rot="2880000">
            <a:off x="1864080" y="2757960"/>
            <a:ext cx="233280" cy="122544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own Arrow 5"/>
          <p:cNvSpPr/>
          <p:nvPr/>
        </p:nvSpPr>
        <p:spPr>
          <a:xfrm rot="4440000">
            <a:off x="2160360" y="3562560"/>
            <a:ext cx="174600" cy="6634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own Arrow 6"/>
          <p:cNvSpPr/>
          <p:nvPr/>
        </p:nvSpPr>
        <p:spPr>
          <a:xfrm rot="6300000">
            <a:off x="2140920" y="4217040"/>
            <a:ext cx="187200" cy="789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19_03_ViralStructure-L.jpg"/>
          <p:cNvPicPr/>
          <p:nvPr/>
        </p:nvPicPr>
        <p:blipFill>
          <a:blip r:embed="rId1"/>
          <a:stretch/>
        </p:blipFill>
        <p:spPr>
          <a:xfrm>
            <a:off x="155520" y="228600"/>
            <a:ext cx="8912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19_T01aAnimalViruses-L.jpg"/>
          <p:cNvPicPr/>
          <p:nvPr/>
        </p:nvPicPr>
        <p:blipFill>
          <a:blip r:embed="rId1"/>
          <a:stretch/>
        </p:blipFill>
        <p:spPr>
          <a:xfrm>
            <a:off x="1427040" y="136440"/>
            <a:ext cx="62899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19_T01bAnimalViruses-L.jpg"/>
          <p:cNvPicPr/>
          <p:nvPr/>
        </p:nvPicPr>
        <p:blipFill>
          <a:blip r:embed="rId1"/>
          <a:stretch/>
        </p:blipFill>
        <p:spPr>
          <a:xfrm>
            <a:off x="2077920" y="0"/>
            <a:ext cx="519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23:08:17Z</dcterms:created>
  <dc:creator>Chris Nancy Chou</dc:creator>
  <dc:description/>
  <dc:language>en-US</dc:language>
  <cp:lastModifiedBy>local</cp:lastModifiedBy>
  <dcterms:modified xsi:type="dcterms:W3CDTF">2014-01-16T16:04:32Z</dcterms:modified>
  <cp:revision>19</cp:revision>
  <dc:subject/>
  <dc:title>Viruses</dc:title>
</cp:coreProperties>
</file>